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25DC-07BC-4661-BF03-F37841F9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DA82-9B21-4307-9AB3-4D737BDF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EEFE-A60D-43AD-8FBA-9CA8BD43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4838-9AAD-4F24-AF8F-9CA66F9C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51AC-F626-4DCB-B760-393EE42B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29CF-B4A2-410E-9B60-A9F4A55D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C240-7F03-4478-9428-82EA5B2D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49CE-846C-464E-83AE-3C5B61DB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4FE0-6192-4A10-BAFF-BE815B44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CD2-B942-4A74-A870-BE3F8E9E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F546-B934-4C9F-8D56-C927C85F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857A-606C-4DE6-B84E-D5F0DB51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E83D-5BDA-4F3F-83F7-B97D0B889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Me llamo ___________          Clase 8im</a:t>
            </a:r>
            <a:br>
              <a:rPr sz="3800"/>
            </a:b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La fecha es el 18 de diciembre del 20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22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l fue el ultimo libro que leís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y and rewrite in the present ten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comí mu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bebis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rendimos mucho en la escue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los no lo vendie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tedes comprendieron, ¿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os verbos Oir, L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960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verb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i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to hear)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irregular en el presente y también en el pretérit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verbo Leer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to read)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pretérito tiene la misma terminación que Oí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038480" y="914400"/>
          <a:ext cx="4843080" cy="2766960"/>
        </p:xfrm>
        <a:graphic>
          <a:graphicData uri="http://schemas.openxmlformats.org/drawingml/2006/table">
            <a:tbl>
              <a:tblPr/>
              <a:tblGrid>
                <a:gridCol w="2017440"/>
                <a:gridCol w="1412640"/>
                <a:gridCol w="141300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i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ter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038480" y="3997440"/>
          <a:ext cx="4952880" cy="2555640"/>
        </p:xfrm>
        <a:graphic>
          <a:graphicData uri="http://schemas.openxmlformats.org/drawingml/2006/table">
            <a:tbl>
              <a:tblPr/>
              <a:tblGrid>
                <a:gridCol w="1238040"/>
                <a:gridCol w="1158480"/>
                <a:gridCol w="1437840"/>
                <a:gridCol w="1118520"/>
              </a:tblGrid>
              <a:tr h="5425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Le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6356520" y="1727280"/>
            <a:ext cx="73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i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65880" y="2117880"/>
            <a:ext cx="759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54000" y="2498760"/>
            <a:ext cx="633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17560" y="2879640"/>
            <a:ext cx="948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25560" y="3260880"/>
            <a:ext cx="801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y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11200" y="1676520"/>
            <a:ext cx="415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59360" y="2133720"/>
            <a:ext cx="802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49640" y="2514600"/>
            <a:ext cx="639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y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05080" y="2895480"/>
            <a:ext cx="948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70520" y="3276720"/>
            <a:ext cx="107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ye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69840" y="4556160"/>
            <a:ext cx="487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le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78040" y="5318280"/>
            <a:ext cx="87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le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8320" y="5943600"/>
            <a:ext cx="711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ley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74720" y="4572000"/>
            <a:ext cx="1020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le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827480" y="5943600"/>
            <a:ext cx="1145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leye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2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2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p. 8.7-8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p.8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992400"/>
            <a:ext cx="8229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4:49:35Z</dcterms:created>
  <dc:creator>Helen Zumaeta</dc:creator>
  <dc:description/>
  <dc:language>en-US</dc:language>
  <cp:lastModifiedBy>Helen Zumaeta</cp:lastModifiedBy>
  <dcterms:modified xsi:type="dcterms:W3CDTF">2012-12-18T18:58:22Z</dcterms:modified>
  <cp:revision>2</cp:revision>
  <dc:subject/>
  <dc:title>Me llamo ___________          Clase 8im La fecha es el 18 de diciembre del 2012</dc:title>
</cp:coreProperties>
</file>